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986-4439-4FF8-9299-454798FD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EF4-EE17-4F5A-9DA4-EB686995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F8185-4419-44BF-98C5-86117A71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C029-F451-4BDA-BD7A-84548028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6C891-9ABF-4F36-9D8D-C3FA59FA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2989-AF48-4A3D-8EFE-514B108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24EE-0BDB-4C8A-84C3-587B39D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45CD-BD43-454D-A87F-9F24B22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63F6-3866-4326-9554-FBC0EE7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E328-D081-4E3C-91F8-CA3A8FD7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189F-0758-484C-ADB0-A15EA9C5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E2859-A262-43B5-BEFF-6E284604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F57-2B4A-44A8-A029-C39334F3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89086-2C96-4FB3-B8F7-4DBCF8F9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9E2F-44AC-4441-ACB1-36A937C5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7C6D-2B40-4E46-8FF6-47881A5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7944F-FDE6-474A-AA8D-962FFE84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920E-F736-4057-99DA-08CD965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0A56-4E1B-4139-B0CE-4E23A7F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3DB4A-51A2-41E4-8087-10E88CA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172E-9F19-4AD7-A7B6-40A6581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465E2-AE88-4ECF-B6A4-AF5BFF5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67B1-960B-486B-8CAC-1B58A42A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BEC-EEB7-40AF-8CA4-4A245C23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5E7A9-DFD3-4C36-ADB7-921E6C80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E6872-F133-452F-AE64-ECC679D2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48DF-70E5-4AFF-A7BC-CEBCB339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980A-7C5A-4685-BD99-B88E33A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7BC3B-E38C-4274-A112-74B1EBF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4D66-A73C-4F38-9A05-FE14BE1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2B181-461A-4D7A-8312-E547AD2B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BDDF-AFDA-4D60-9612-04558E0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BAE49-BE9A-4D02-9C10-AB1F09C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DD31-91F7-4E67-82A6-675F9D3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934E-762D-458C-92C7-550C3848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C5446-9D2C-4C24-A6E9-9857EED5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EDDDB-F131-4C2F-ADDE-D40B057C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52821-EF7D-47F4-9D39-F8F76A6A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536A-ECDB-4BD3-897D-5B4BF2D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5AD76-1364-473B-BE9C-6477ABC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E5A01-50C6-4D16-8CC2-62C0047B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F8922-77F9-4E38-8610-9BB6399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C17F-B212-4F64-AC96-6A954D62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3F2F-D462-4ECC-97A0-BF52E1D4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C7BBE-016E-4D57-AAE9-69C8A0FD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FE62D-CA4A-43ED-8662-73ECD62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C45C-2655-4A4F-9B3D-F9C57CB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5759-277C-4046-A982-EEC19231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725E5-9C02-4230-9259-43DA84ED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05C2-15F0-49ED-85BC-BA4BAC12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BCFF3-C49B-4CC0-97AB-D7D3DB8E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04881-CAF6-4A86-90CC-B15C92C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836EE-817F-4AC1-BDEB-300CFF24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FC7E8-B8D7-4B4E-A24E-ADFBA40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63A62-C66A-4534-A3FE-F7F63BF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C2FF-DDBF-4CAE-BD94-803FF36E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4C133-7EEA-440C-B821-CD14C7A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32B9C-3AF3-4A37-A2F1-4DFA508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4CC19-049E-4A04-AF09-59E2D64A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B72D5-892E-4CD5-ABF3-ECA09BD6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DB5CE-32B4-4304-8F8B-CC58EDD2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811A-6726-44B9-BB43-C1430FFB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DD0CD-5DCE-43F7-852F-C7A307B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F9331-2B2A-4A93-B9BB-FB7A064F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933D5-8926-43F2-82E9-97B05BDD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0070-3836-4619-B29E-1358EA6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5A43-1F48-4956-A1D7-3106AEF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7A73-B5A1-4B1D-910E-9193AB6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F0A99-0867-4CEA-9054-0CF3AB0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1A1D5-F691-4E86-90E4-5AD6EA0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670C8-F3AC-4D94-B7F2-FAAAD94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60B0C-A1EC-4420-81A5-AA734370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2102-3CF6-46E6-80D5-44986C3E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7C9-64BC-4211-BDB2-D4516BBE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F7A4-D844-4DD5-A4B5-39E98106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88C3-8D7C-4821-99A6-1EC23998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C84-CE5E-43C1-8E93-E55EE453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594-5824-4AF1-91EB-8CF8737C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47F9-38C4-4D76-A175-F998A34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DF2-5094-4B0E-A9FF-E7E16301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59B-9264-4CFB-AE47-6F610FE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DAC-A08E-4F07-9452-8BD94D3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2AB-15FA-4C99-B25D-7DA2792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77BB-DB69-45E5-86D1-DF0B5C6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285-60B7-48F8-BEA7-75742C2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0D9-39BD-441B-8719-CB3A51AF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77A-1E71-4C29-A90C-93586325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B4E-DD3B-42F4-9406-033E5E7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9E4-E9FF-44DF-8DC0-B0E84F7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865-F439-4D7F-8D70-28F94F50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A2C6F-179D-45D5-BDA8-A8EC6BBD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A8AE-8BA4-445A-928B-2DEF061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E9D3-4637-49A8-86B3-91411EF4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41C5-211D-4463-80B2-08B42B6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778A-A2A3-45D0-8BB1-B235739E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9930-5437-4418-800D-2850395C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18AD-026B-464D-A805-5F4BA43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8EC0-5980-4249-8CE2-9DF10E9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B27D-47B3-4192-8085-A2D40B6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FDD-429C-420D-A8ED-D6CF902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6239-3B1E-4E07-99F2-AC57E91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344A-FB60-41D7-BEE7-53E2643B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FB1D-84C4-48F0-934C-43A33047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E005-0AAE-4848-BD37-F070263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FB61-2BA6-4AAF-86A5-E884BCE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AD29F-AF30-4B0C-96A1-0F9061FC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BD6E-E6A6-42EA-877F-18023FE5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2FF1-FC0E-4023-9A8B-BBDE316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F70C-B102-469B-879A-A98B8CE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9DDD7-8D8F-49F4-9BC4-14DA3FE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13A-71A0-4F6E-8060-4BF38C1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FA86-C163-4577-A50A-F98F16E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B472-C698-4099-AB53-3620B2C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C98A-DC25-433A-9A2A-2CCBE2F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2C10-9211-416C-AAF0-F9E05A54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1F5E-61AB-49D4-B55F-3AB285EA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5076-B622-413C-921E-3E57853B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334BC-844C-45D6-816B-299C409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2869-DDC7-4F79-9250-2ACB877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1618-AD46-49DD-B3E8-A43E9FD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F86A-BB3E-49C7-A3C1-4E7F72C4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3D4-3222-49CD-9745-32E8ACE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89497-2B55-4EAB-B15A-A0FF1503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A4DF-3905-426F-BBDA-9655145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51F51-73E3-4F77-88C8-20C3BF3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FBAE-6D96-4799-B5F9-3A607F1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348C-B17A-4476-B09C-B5B15B41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26C83-666F-4364-A9C7-EE7D76D4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FDF40-AB7E-4214-BD16-581ACAC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36C8B-4963-449D-8741-EB6B3D41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D10F-6D46-4D04-9FBD-F7B4D0A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7B82-7F85-421C-AFC0-17052D9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F0F-1D19-4553-8E58-44F39EC4E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EE2-8237-487E-93EA-D21CC70D42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81A-D125-499C-9E9E-6E71ACD268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292-00D7-41D5-92B1-7F34B3F17E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7E2B-CD9C-43EB-8404-3908587AE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425" h="6400800">
                <a:moveTo>
                  <a:pt x="767713" y="0"/>
                </a:moveTo>
                <a:lnTo>
                  <a:pt x="767713" y="0"/>
                </a:lnTo>
                <a:cubicBezTo>
                  <a:pt x="1191709" y="0"/>
                  <a:pt x="1535426" y="343717"/>
                  <a:pt x="1535426" y="767713"/>
                </a:cubicBezTo>
                <a:cubicBezTo>
                  <a:pt x="1535426" y="2645409"/>
                  <a:pt x="1535425" y="4523104"/>
                  <a:pt x="1535425" y="6400800"/>
                </a:cubicBezTo>
                <a:lnTo>
                  <a:pt x="1535425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713"/>
                </a:lnTo>
                <a:cubicBezTo>
                  <a:pt x="0" y="343717"/>
                  <a:pt x="343717" y="0"/>
                  <a:pt x="767713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A62-50FC-4351-868C-C8B2B365A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720" y="1577520"/>
            <a:ext cx="9472320" cy="4641480"/>
            <a:chOff x="-720" y="1577520"/>
            <a:chExt cx="9472320" cy="464148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3120"/>
              <a:ext cx="206532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960"/>
              <a:ext cx="1041120" cy="713520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2760" cy="529704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000" cy="632052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5040" y="-279360"/>
              <a:ext cx="552240" cy="510516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920" y="1177920"/>
              <a:ext cx="536400" cy="293616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600" y="-764640"/>
              <a:ext cx="3505680" cy="1521000"/>
            </a:xfrm>
            <a:custGeom>
              <a:avLst/>
              <a:gdLst/>
              <a:ahLst/>
              <a:rect l="l" t="t" r="r" b="b"/>
              <a:pathLst>
                <a:path w="3505316" h="1521076">
                  <a:moveTo>
                    <a:pt x="3505110" y="772199"/>
                  </a:moveTo>
                  <a:cubicBezTo>
                    <a:pt x="3490413" y="1188100"/>
                    <a:pt x="2708473" y="1521725"/>
                    <a:pt x="1749920" y="1521075"/>
                  </a:cubicBezTo>
                  <a:cubicBezTo>
                    <a:pt x="782161" y="1520419"/>
                    <a:pt x="-1219" y="1179523"/>
                    <a:pt x="2" y="759579"/>
                  </a:cubicBezTo>
                  <a:lnTo>
                    <a:pt x="1752658" y="760538"/>
                  </a:lnTo>
                  <a:lnTo>
                    <a:pt x="3505110" y="77219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8280" y="-17784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  <a:lnTo>
                    <a:pt x="566676" y="415823"/>
                  </a:lnTo>
                  <a:lnTo>
                    <a:pt x="4017" y="366396"/>
                  </a:lnTo>
                  <a:close/>
                </a:path>
                <a:path fill="none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1000" h="381000">
                  <a:moveTo>
                    <a:pt x="381000" y="190415"/>
                  </a:moveTo>
                  <a:cubicBezTo>
                    <a:pt x="381046" y="293853"/>
                    <a:pt x="298541" y="378427"/>
                    <a:pt x="195133" y="380943"/>
                  </a:cubicBezTo>
                  <a:cubicBezTo>
                    <a:pt x="91726" y="383459"/>
                    <a:pt x="5205" y="302997"/>
                    <a:pt x="221" y="199679"/>
                  </a:cubicBezTo>
                  <a:lnTo>
                    <a:pt x="190500" y="190500"/>
                  </a:lnTo>
                  <a:lnTo>
                    <a:pt x="381000" y="190415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960" cy="1671480"/>
            </a:xfrm>
            <a:custGeom>
              <a:avLst/>
              <a:gdLst/>
              <a:ahLst/>
              <a:rect l="l" t="t" r="r" b="b"/>
              <a:pathLst>
                <a:path stroke="0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  <a:lnTo>
                    <a:pt x="726532" y="835684"/>
                  </a:lnTo>
                  <a:lnTo>
                    <a:pt x="493143" y="44292"/>
                  </a:lnTo>
                  <a:close/>
                </a:path>
                <a:path fill="none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880" y="-1040400"/>
              <a:ext cx="1905840" cy="2047680"/>
            </a:xfrm>
            <a:custGeom>
              <a:avLst/>
              <a:gdLst/>
              <a:ahLst/>
              <a:rect l="l" t="t" r="r" b="b"/>
              <a:pathLst>
                <a:path stroke="0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  <a:lnTo>
                    <a:pt x="952934" y="1023670"/>
                  </a:lnTo>
                  <a:lnTo>
                    <a:pt x="673294" y="45068"/>
                  </a:lnTo>
                  <a:close/>
                </a:path>
                <a:path fill="none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379D-25AC-4576-B376-B35B8359D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600" y="-764640"/>
              <a:ext cx="3505680" cy="1521000"/>
            </a:xfrm>
            <a:custGeom>
              <a:avLst/>
              <a:gdLst/>
              <a:ahLst/>
              <a:rect l="l" t="t" r="r" b="b"/>
              <a:pathLst>
                <a:path w="3505316" h="1521076">
                  <a:moveTo>
                    <a:pt x="3505110" y="772199"/>
                  </a:moveTo>
                  <a:cubicBezTo>
                    <a:pt x="3490413" y="1188100"/>
                    <a:pt x="2708473" y="1521725"/>
                    <a:pt x="1749920" y="1521075"/>
                  </a:cubicBezTo>
                  <a:cubicBezTo>
                    <a:pt x="782161" y="1520419"/>
                    <a:pt x="-1219" y="1179523"/>
                    <a:pt x="2" y="759579"/>
                  </a:cubicBezTo>
                  <a:lnTo>
                    <a:pt x="1752658" y="760538"/>
                  </a:lnTo>
                  <a:lnTo>
                    <a:pt x="3505110" y="77219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8280" y="-17784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  <a:lnTo>
                    <a:pt x="566676" y="415823"/>
                  </a:lnTo>
                  <a:lnTo>
                    <a:pt x="4017" y="366396"/>
                  </a:lnTo>
                  <a:close/>
                </a:path>
                <a:path fill="none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1000" h="381000">
                  <a:moveTo>
                    <a:pt x="381000" y="190415"/>
                  </a:moveTo>
                  <a:cubicBezTo>
                    <a:pt x="381046" y="293853"/>
                    <a:pt x="298541" y="378427"/>
                    <a:pt x="195133" y="380943"/>
                  </a:cubicBezTo>
                  <a:cubicBezTo>
                    <a:pt x="91726" y="383459"/>
                    <a:pt x="5205" y="302997"/>
                    <a:pt x="221" y="199679"/>
                  </a:cubicBezTo>
                  <a:lnTo>
                    <a:pt x="190500" y="190500"/>
                  </a:lnTo>
                  <a:lnTo>
                    <a:pt x="381000" y="190415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960" cy="1671480"/>
            </a:xfrm>
            <a:custGeom>
              <a:avLst/>
              <a:gdLst/>
              <a:ahLst/>
              <a:rect l="l" t="t" r="r" b="b"/>
              <a:pathLst>
                <a:path stroke="0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  <a:lnTo>
                    <a:pt x="726532" y="835684"/>
                  </a:lnTo>
                  <a:lnTo>
                    <a:pt x="493143" y="44292"/>
                  </a:lnTo>
                  <a:close/>
                </a:path>
                <a:path fill="none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880" y="-1040400"/>
              <a:ext cx="1905840" cy="2047680"/>
            </a:xfrm>
            <a:custGeom>
              <a:avLst/>
              <a:gdLst/>
              <a:ahLst/>
              <a:rect l="l" t="t" r="r" b="b"/>
              <a:pathLst>
                <a:path stroke="0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  <a:lnTo>
                    <a:pt x="952934" y="1023670"/>
                  </a:lnTo>
                  <a:lnTo>
                    <a:pt x="673294" y="45068"/>
                  </a:lnTo>
                  <a:close/>
                </a:path>
                <a:path fill="none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84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400"/>
              <a:ext cx="2014920" cy="1892520"/>
              <a:chOff x="2741400" y="-932400"/>
              <a:chExt cx="2014920" cy="189252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1840" y="-834840"/>
                <a:ext cx="1452960" cy="1671840"/>
              </a:xfrm>
              <a:custGeom>
                <a:avLst/>
                <a:gdLst/>
                <a:ahLst/>
                <a:rect l="l" t="t" r="r" b="b"/>
                <a:pathLst>
                  <a:path stroke="0" w="1453063" h="1671367">
                    <a:moveTo>
                      <a:pt x="485448" y="47350"/>
                    </a:moveTo>
                    <a:cubicBezTo>
                      <a:pt x="759438" y="-63508"/>
                      <a:pt x="1064502" y="23984"/>
                      <a:pt x="1261168" y="269827"/>
                    </a:cubicBezTo>
                    <a:cubicBezTo>
                      <a:pt x="1420559" y="469074"/>
                      <a:pt x="1486148" y="744797"/>
                      <a:pt x="1437151" y="1009629"/>
                    </a:cubicBezTo>
                    <a:cubicBezTo>
                      <a:pt x="1383234" y="1301053"/>
                      <a:pt x="1198502" y="1537414"/>
                      <a:pt x="952292" y="1629998"/>
                    </a:cubicBezTo>
                    <a:lnTo>
                      <a:pt x="726532" y="835684"/>
                    </a:lnTo>
                    <a:lnTo>
                      <a:pt x="485448" y="47350"/>
                    </a:lnTo>
                    <a:close/>
                  </a:path>
                  <a:path fill="none" w="1453063" h="1671367">
                    <a:moveTo>
                      <a:pt x="485448" y="47350"/>
                    </a:moveTo>
                    <a:cubicBezTo>
                      <a:pt x="759438" y="-63508"/>
                      <a:pt x="1064502" y="23984"/>
                      <a:pt x="1261168" y="269827"/>
                    </a:cubicBezTo>
                    <a:cubicBezTo>
                      <a:pt x="1420559" y="469074"/>
                      <a:pt x="1486148" y="744797"/>
                      <a:pt x="1437151" y="1009629"/>
                    </a:cubicBezTo>
                    <a:cubicBezTo>
                      <a:pt x="1383234" y="1301053"/>
                      <a:pt x="1198502" y="1537414"/>
                      <a:pt x="952292" y="162999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8400" y="31680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32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7680" y="-1206000"/>
              <a:ext cx="4192560" cy="2356560"/>
              <a:chOff x="3217680" y="-1206000"/>
              <a:chExt cx="4192560" cy="235656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680" y="-775800"/>
                <a:ext cx="3198600" cy="1521000"/>
              </a:xfrm>
              <a:custGeom>
                <a:avLst/>
                <a:gdLst/>
                <a:ahLst/>
                <a:rect l="l" t="t" r="r" b="b"/>
                <a:pathLst>
                  <a:path w="3505316" h="1521076">
                    <a:moveTo>
                      <a:pt x="3505110" y="772199"/>
                    </a:moveTo>
                    <a:cubicBezTo>
                      <a:pt x="3490424" y="1187808"/>
                      <a:pt x="2709529" y="1521316"/>
                      <a:pt x="1751648" y="1521076"/>
                    </a:cubicBezTo>
                    <a:cubicBezTo>
                      <a:pt x="790375" y="1520836"/>
                      <a:pt x="8929" y="1184656"/>
                      <a:pt x="75" y="767544"/>
                    </a:cubicBezTo>
                    <a:lnTo>
                      <a:pt x="1752658" y="760538"/>
                    </a:lnTo>
                    <a:lnTo>
                      <a:pt x="3505110" y="77219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840" cy="952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960" y="-188640"/>
                <a:ext cx="1033920" cy="831600"/>
              </a:xfrm>
              <a:custGeom>
                <a:avLst/>
                <a:gdLst/>
                <a:ahLst/>
                <a:rect l="l" t="t" r="r" b="b"/>
                <a:pathLst>
                  <a:path stroke="0" w="1133352" h="831645">
                    <a:moveTo>
                      <a:pt x="4017" y="366396"/>
                    </a:moveTo>
                    <a:cubicBezTo>
                      <a:pt x="37933" y="158506"/>
                      <a:pt x="277203" y="1543"/>
                      <a:pt x="562527" y="11"/>
                    </a:cubicBezTo>
                    <a:cubicBezTo>
                      <a:pt x="845193" y="-1508"/>
                      <a:pt x="1086156" y="150066"/>
                      <a:pt x="1127313" y="355280"/>
                    </a:cubicBezTo>
                    <a:lnTo>
                      <a:pt x="566676" y="415823"/>
                    </a:lnTo>
                    <a:lnTo>
                      <a:pt x="4017" y="366396"/>
                    </a:lnTo>
                    <a:close/>
                  </a:path>
                  <a:path fill="none" w="1133352" h="831645">
                    <a:moveTo>
                      <a:pt x="4017" y="366396"/>
                    </a:moveTo>
                    <a:cubicBezTo>
                      <a:pt x="37933" y="158506"/>
                      <a:pt x="277203" y="1543"/>
                      <a:pt x="562527" y="11"/>
                    </a:cubicBezTo>
                    <a:cubicBezTo>
                      <a:pt x="845193" y="-1508"/>
                      <a:pt x="1086156" y="150066"/>
                      <a:pt x="1127313" y="355280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1640" y="-961560"/>
                <a:ext cx="1905840" cy="1868040"/>
              </a:xfrm>
              <a:custGeom>
                <a:avLst/>
                <a:gdLst/>
                <a:ahLst/>
                <a:rect l="l" t="t" r="r" b="b"/>
                <a:pathLst>
                  <a:path stroke="0" w="1905868" h="2047339">
                    <a:moveTo>
                      <a:pt x="673294" y="45068"/>
                    </a:moveTo>
                    <a:cubicBezTo>
                      <a:pt x="1186299" y="-124097"/>
                      <a:pt x="1728108" y="194936"/>
                      <a:pt x="1871312" y="750496"/>
                    </a:cubicBezTo>
                    <a:cubicBezTo>
                      <a:pt x="2006759" y="1275965"/>
                      <a:pt x="1735024" y="1823262"/>
                      <a:pt x="1253339" y="1995144"/>
                    </a:cubicBezTo>
                    <a:lnTo>
                      <a:pt x="952934" y="1023670"/>
                    </a:lnTo>
                    <a:lnTo>
                      <a:pt x="673294" y="45068"/>
                    </a:lnTo>
                    <a:close/>
                  </a:path>
                  <a:path fill="none" w="1905868" h="2047339">
                    <a:moveTo>
                      <a:pt x="673294" y="45068"/>
                    </a:moveTo>
                    <a:cubicBezTo>
                      <a:pt x="1186299" y="-124097"/>
                      <a:pt x="1728108" y="194936"/>
                      <a:pt x="1871312" y="750496"/>
                    </a:cubicBezTo>
                    <a:cubicBezTo>
                      <a:pt x="2006759" y="1275965"/>
                      <a:pt x="1735024" y="1823262"/>
                      <a:pt x="1253339" y="1995144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000"/>
              <a:ext cx="267120" cy="2671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5320"/>
              <a:ext cx="182520" cy="228600"/>
            </a:xfrm>
            <a:custGeom>
              <a:avLst/>
              <a:gdLst/>
              <a:ahLst/>
              <a:rect l="l" t="t" r="r" b="b"/>
              <a:pathLst>
                <a:path w="182880" h="228600">
                  <a:moveTo>
                    <a:pt x="162843" y="185703"/>
                  </a:moveTo>
                  <a:cubicBezTo>
                    <a:pt x="132396" y="233276"/>
                    <a:pt x="77450" y="242637"/>
                    <a:pt x="37929" y="206984"/>
                  </a:cubicBezTo>
                  <a:cubicBezTo>
                    <a:pt x="8512" y="180447"/>
                    <a:pt x="-5572" y="134682"/>
                    <a:pt x="2031" y="90343"/>
                  </a:cubicBezTo>
                  <a:cubicBezTo>
                    <a:pt x="11068" y="37646"/>
                    <a:pt x="48325" y="0"/>
                    <a:pt x="91440" y="0"/>
                  </a:cubicBezTo>
                  <a:lnTo>
                    <a:pt x="162843" y="185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714" h="2607556">
                <a:moveTo>
                  <a:pt x="404857" y="0"/>
                </a:moveTo>
                <a:lnTo>
                  <a:pt x="404857" y="0"/>
                </a:lnTo>
                <a:cubicBezTo>
                  <a:pt x="628453" y="0"/>
                  <a:pt x="809714" y="181261"/>
                  <a:pt x="809714" y="404857"/>
                </a:cubicBezTo>
                <a:lnTo>
                  <a:pt x="809714" y="2607556"/>
                </a:lnTo>
                <a:lnTo>
                  <a:pt x="809714" y="2607556"/>
                </a:lnTo>
                <a:lnTo>
                  <a:pt x="0" y="2607556"/>
                </a:lnTo>
                <a:lnTo>
                  <a:pt x="0" y="2607556"/>
                </a:lnTo>
                <a:lnTo>
                  <a:pt x="0" y="404857"/>
                </a:lnTo>
                <a:cubicBezTo>
                  <a:pt x="0" y="181261"/>
                  <a:pt x="181261" y="0"/>
                  <a:pt x="404857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C00-22B9-4C8C-92F7-8A59958C1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0CE-2A11-4C9F-AD10-61ECCF1D5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A928-0171-4486-A399-4F5D524E3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587-2DDD-48BB-A341-1CA8A090A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Le partitif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50960" y="4705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712800" y="1368000"/>
            <a:ext cx="771696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word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in French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f you want to say “some milk”: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ake the wor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(some) then ad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e lait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(milk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lait = de le la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AIT A MINUTE! We have a major problem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French, when the wor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is next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it chang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u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OOOOOO “some milk” =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du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lait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This Chart Will Help You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712800" y="3011400"/>
          <a:ext cx="7716960" cy="2803680"/>
        </p:xfrm>
        <a:graphic>
          <a:graphicData uri="http://schemas.openxmlformats.org/drawingml/2006/table">
            <a:tbl>
              <a:tblPr/>
              <a:tblGrid>
                <a:gridCol w="3859200"/>
                <a:gridCol w="385776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l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mplete the following “some” equations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a pizza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champignons = 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’anana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bonbon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céleri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TextBox 3"/>
          <p:cNvSpPr/>
          <p:nvPr/>
        </p:nvSpPr>
        <p:spPr>
          <a:xfrm>
            <a:off x="3430440" y="301140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 la pizz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0" name="TextBox 4"/>
          <p:cNvSpPr/>
          <p:nvPr/>
        </p:nvSpPr>
        <p:spPr>
          <a:xfrm>
            <a:off x="4782960" y="359568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champign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1" name="TextBox 5"/>
          <p:cNvSpPr/>
          <p:nvPr/>
        </p:nvSpPr>
        <p:spPr>
          <a:xfrm>
            <a:off x="3747960" y="419724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 l’anana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2" name="TextBox 6"/>
          <p:cNvSpPr/>
          <p:nvPr/>
        </p:nvSpPr>
        <p:spPr>
          <a:xfrm>
            <a:off x="4160880" y="48369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bonb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3" name="TextBox 7"/>
          <p:cNvSpPr/>
          <p:nvPr/>
        </p:nvSpPr>
        <p:spPr>
          <a:xfrm>
            <a:off x="3611520" y="54309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 céleri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carote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fromage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6" name="TextBox 3"/>
          <p:cNvSpPr/>
          <p:nvPr/>
        </p:nvSpPr>
        <p:spPr>
          <a:xfrm>
            <a:off x="4238640" y="301140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carott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7" name="TextBox 4"/>
          <p:cNvSpPr/>
          <p:nvPr/>
        </p:nvSpPr>
        <p:spPr>
          <a:xfrm>
            <a:off x="4057560" y="356220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 fromag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157040"/>
            <a:ext cx="77169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u négatif…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2474640"/>
            <a:ext cx="77169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the negative, NE and PAS sandwich the verb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Y TYPE of du, de la, de l’, or des CHANGES to de ALWAYS!!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: Je veut du maïs soufflé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J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veu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maïs soufflé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: Je mets de l’ananas sur ma pizz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J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me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’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anas sur ma pizz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9:33:44Z</dcterms:created>
  <dc:creator>Sarah</dc:creator>
  <dc:description/>
  <dc:language>en-US</dc:language>
  <cp:lastModifiedBy>Sarah</cp:lastModifiedBy>
  <dcterms:modified xsi:type="dcterms:W3CDTF">2012-10-23T18:16:37Z</dcterms:modified>
  <cp:revision>8</cp:revision>
  <dc:subject/>
  <dc:title>Le partitif</dc:title>
</cp:coreProperties>
</file>